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chimes.wav" ContentType="audio/x-wav"/>
  <Override PartName="/ppt/media/wind.wav" ContentType="audio/x-wav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3.jpeg" ContentType="image/jpeg"/>
  <Override PartName="/ppt/media/image4.png" ContentType="image/png"/>
  <Override PartName="/ppt/media/applause.wav" ContentType="audio/x-wav"/>
  <Override PartName="/ppt/media/image12.jpeg" ContentType="image/jpeg"/>
  <Override PartName="/ppt/media/image6.png" ContentType="image/png"/>
  <Override PartName="/ppt/media/image3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F56-3BF6-487B-AE1D-1EE4703F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BC3-746A-4523-A00F-A85B61C7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C8E-F719-419B-9CA1-5594C616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566-A478-4FF1-92D3-D08B62A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0D4-7A14-4E54-B921-8C911FCA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131-537A-4E3E-9D51-7D840221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087-0884-4E5A-9059-00B5695B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DD25-E517-4BB7-A0B8-A68DD8A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29BE-1227-49D3-903B-A6A14EC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2BE-CB8C-4790-B1A6-D1E5F31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F9B-6667-4C60-8BEA-E875E0C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0C3-0204-4709-AFA6-5EA25FD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1C76-38B5-477F-AA3C-46E6C60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DB05-9CE7-4610-83B8-3A4F430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C854-85A4-433D-8A02-F9477EF8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2F7-BD69-4887-9C07-EEADE1FC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4CB-8527-4821-AD1A-2B8F6AD9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201-5D7F-4A0E-94D5-289C515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8E8-7658-40AC-8F41-3FAEF14A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C26-BBA0-486F-A566-DF7B0B8A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FF9-ED86-44F9-B39B-7102B0E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E53-E78F-4F45-B697-2680B55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CF4-CD14-4C25-A7C5-79674CB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2FE-2BC4-4936-A200-1076C7C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C9F8-1D86-44B3-B4AE-E42F783D094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9A7-3851-495E-B395-2787576F6C0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drumroll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родна  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іграш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5280" y="1341360"/>
            <a:ext cx="7056360" cy="50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53272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ffff"/>
                </a:solidFill>
                <a:uFillTx/>
                <a:latin typeface="Arial"/>
              </a:rPr>
              <a:t>Мистецька абетка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ДЕКОРАТИВНИЙ РОЗПИС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сюжетні або орнаментальні малярські зображення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ОРНАМЕНТ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візерунок з ритмічно упорядкованих елементів, що використовуються для оздоблення предметів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ДЕКОРАТИВНО-УЖИТКОВЕ МИСТЕЦТВО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мистецтво виготовлення предметів побуту, що мають художні якості й призначаються для практичних (ужиткових) потреб людини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СТАТУЕТКА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— зменшене скульптурне зображення.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35.1428580284119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737160" cy="180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21333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3848040" cy="3162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81120" cy="30096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345440" cy="6408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advTm="4000"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840360" cy="633564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48360" cy="5904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337440" cy="633564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0"/>
            <a:ext cx="7386480" cy="685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9900"/>
                </a:solidFill>
                <a:uFillTx/>
                <a:latin typeface="Arial"/>
              </a:rPr>
              <a:t>Розпис та оформлення іграшок.</a:t>
            </a:r>
            <a:r>
              <a:rPr b="0" lang="uk-UA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В основному використовуйте гуашеві та акварельні фарб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Спочатку іграшку тонуємо (наносимо основний колір). Частіше за все обираємо білу чи жовту основу, але тон може бути й червоним, рожевим, жовтогарячим, зеленим, блакитним (до фарби додаємо білу гуаш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Гуашева фарба сохне швидко (3—5 хвил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тім можна оформлювати іграшку, наносити візерунки, орнаменти. Прості візерунки наносять без попередньої розмітки. (Якщо ж потрібно малювати личка ляльки чи складний орнамент, то спочатку можна   скористатися простим олівцем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Коли візерунок не вдався або ж фарбу розвели великою кількістю води і вона розтеклася, потрібно все витерти шматочком мокрої тканин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Через кілька хвилин іграшка підсохне і можна працювати далі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88640"/>
            <a:ext cx="7386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озписані вироби підсушуємо ще 1—2 дні, а потім лакуєм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 Лакувати іграшки слід обережно і дуже охайно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2. Після лакування треба ще кілька днів підсушити вироби у приміщенні, яке гарно провітрюєтьс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3. Скористайся  « Скарбничкою» під  час  складання  орнамент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600"/>
                                  </p:stCondLst>
                                  <p:iterate type="lt">
                                    <p:tmAbs val="41.30434989929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61.5384674072266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9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1.9999980926514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1:56:41Z</dcterms:created>
  <dc:creator>asqwadadqwasda</dc:creator>
  <dc:description/>
  <dc:language>en-US</dc:language>
  <cp:lastModifiedBy>User</cp:lastModifiedBy>
  <dcterms:modified xsi:type="dcterms:W3CDTF">2012-02-11T19:14:30Z</dcterms:modified>
  <cp:revision>12</cp:revision>
  <dc:subject/>
  <dc:title>Мистецька абетка. ДЕКОРАТИВНИЙ РОЗПИС — сюжетні або орнаментальні малярські зображення. ОРНАМЕНТ — візерунок з ритмічно упорядкованих елементів, що використовуються для оздоблення предметів. ДЕКОРАТИВНО-УЖИТКОВЕ МИСТЕЦТВО - мистецтво виготовлення предметів побуту, що мають художні якості й призначаються для практичних (ужиткових) потреб людини. СТАТУЕТКА — зменшене скульптурне зображення. </dc:title>
</cp:coreProperties>
</file>